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5FD5-D0B3-4CF7-953D-312E43BD5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73EA-9856-4A2A-9AFA-9C7886BD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BC0A51-C114-49BE-97C0-EE689B2F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669DB-9E4B-44CC-92FF-45B042A1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A922A-9602-433C-85FD-4ABFA6E9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F6A59-64EA-44DC-8893-5753597A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C51AAD-D8E3-4E55-AC74-BD8ADAC5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E7DFB-F5D5-462F-9F21-5552DACD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BD736-DDEA-4D12-AFCF-89E580EA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72E19-8C32-4BCF-82AA-970F25529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89995E-8051-458D-B716-6F8C6EF79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AC5027-F164-42ED-9A13-F0B1C5B59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A807-5DD3-4883-9481-1D77CE983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AB6B9A-6C24-4CC4-8964-28D7B937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2283D8-BBEC-47F4-AD99-01DDFB4A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084145-6587-4B80-A3BB-CF6927B6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A25981-448D-4F62-8F3E-8BC19CA1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86850F-C4AA-42B4-B873-CF90999F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6EEFB6-F62E-47BD-A61A-0E8178A1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9B2BA0-4D6B-4693-88E9-24BCBDD1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0B88AA-17A2-4565-9814-14AA1DDD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A2A0D-8261-4BAC-8E2D-C821FABF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AA9CF8-F3F0-493A-B01C-CA8D81134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EBA1-E615-4739-A71E-38BC709AF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F77461-5268-45B8-ACB5-34A511EFB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C50D0-71BE-4F30-A0D5-4E87D2F63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036D7-0031-44C9-9988-0CC89CFF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6462E-3F65-4B7C-9128-2BE411E4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E9DB5-4DE6-42CD-8AD6-E4B27D93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22B17-6D26-4045-9340-12B41868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719DB-EFA4-425D-978B-98D3978B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6B7F0-6A09-4586-B6E8-693510AC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7A4DB-9123-4368-A3EF-8BB67E05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9A306-A02E-4011-AFB9-81E3B72E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FC08-E1ED-49F1-8B29-CC119709A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8435D-5175-4F61-9060-F8C191E7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52206-DFF1-4D22-9A02-BBC71F35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39A23A-C2E5-41A0-832C-6EBC882D8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8111EF-360E-4D29-86E3-5DBCE86D1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2B4717-4A02-4573-BEF5-AA369D42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C7C899-8235-4A74-8F37-2706C128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5197BB-009D-4CE2-AE33-EBA38262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5E8F2-C92D-4B54-B2EE-A9B637E0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FD75B-B350-4901-ACB0-F066DB65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6A47F5-FADD-4984-B62A-6C68DF63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7823-08FE-449E-96EE-4286C062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8A2A09-7B20-4D79-94FC-AC974517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AF0DB0-1681-4884-8F3D-E330E122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E952C4-EDDA-491A-AD68-4BA4B7F3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F968E0-BD4F-4F07-B196-7C36BAB2C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35160B-8300-48D3-BF2A-5EB1CA4DD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1466-68C8-4885-AC42-7562AB19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E546-2CB7-42C2-9F5F-BD83B114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3587-7DCD-4ED3-B0A4-13F889AF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9B2C-1B0A-4D02-8129-C3AACC81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B067-39F6-4CB3-A7BD-0D223ABA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3A0D-4D0F-4189-A3A6-26F58436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557B-64E4-47C1-A769-979118A3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7AFE-007D-451F-8EAD-3D8DE5D8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F40B-07CF-475D-9AFC-19076361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1AEC-C54F-424B-BBB5-F4BF7B317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978F-71EE-4FE3-935A-B7377BAC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249A5-B95E-42E4-93C9-48666AE1A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8048A-3CA6-4F6F-AD8B-13A98960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45CA1-1690-4EBD-85B3-75041F47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C4B1C-1877-4D57-93BB-4D1CD60E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1EB9B-B89C-491F-8103-CDF2608E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9CA3-337C-4D31-8300-BD3FCF0B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2F6FF-309A-4B86-88E3-B822D458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B89AD-96D6-4008-A2F1-3F1A7051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8C6C9-F7AC-4920-9FC0-2AA26997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86E4F-E7C3-46B5-A176-0C12609B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404A3-8B30-470E-916F-EBBFC527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99BFA-620A-41D8-B5D7-91DA4F195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1AA24-A0ED-4054-80EB-102E79735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02D52-C056-48F7-8ED6-2A941E10E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42DC9-378D-4792-B999-ED142701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4BE78-0046-4FF4-8AAB-1CFE1B31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CAE4-4152-4086-B534-5285C3A9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99628-0E0A-421D-8C44-677300E0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92B72-D713-477B-9E06-FA012801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2AF9D-A546-4D78-A730-0F07E987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447A5-A265-4ACE-8F0C-ECD08B55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16B06-517F-40B2-BF5A-CC2C6A09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30571-7FC4-446C-8FB2-BD89EB4F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01EC1-787A-4170-ADDF-8CA4A076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1A00C-782A-414A-A34F-DA3C07994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62033-782E-402C-96FA-29CDFB35D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C2819-885D-4EF9-B438-382348B78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FC73-6679-4DD9-9DE6-4755ECD1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DF62A-217B-4ACF-B841-91BF0521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8CCDC-05B8-44EE-B67D-09560CA0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3040F-AFFA-47D4-B426-B99C0D0E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0C067-A6BA-42F2-A0E3-679E374E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2740A-8B80-435B-BCEB-D6EE7F2A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AAF97-294F-4591-BF2C-17E9B7F2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609A4-CFCF-47AC-A69D-A66576D2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E61F6-3777-4855-8776-D3021CC1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9258D-EED8-4D46-BD49-24E1D8B9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A8C32-25A2-4C7E-B64E-01765FE4D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C02A-9E8F-4287-B446-871EB0E6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510DF-D50D-4708-B164-405DDE168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DDC20-6A51-4C56-B651-2FE3C47DB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C8F36-F4B9-46E1-B014-02A50A85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FDCC8-4FA8-4CE9-AC04-7B651315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8D0DE-AAF1-4C7B-84C0-59AEFB90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B10F4-DA38-412C-A9F8-778D670B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FAA10-8179-4E3C-9FB1-B9131692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A6D3A-D516-44E1-B2D4-24516441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19213-0C53-4937-97FB-9D241B51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47BD7-8293-4B2C-BCA0-52C8B591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48EF-E179-4ED3-BD8E-03417D0C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B5991-BCBC-42D9-87E3-A8AC5599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DE310-73F6-4B42-B81B-CCDB5B9F8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546CA-D930-4921-B92F-A9245128C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ADBD4-84E2-4CC9-BC18-38450E4B3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4B311-052A-48E6-9FB5-8A8513F3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1569A-722D-4D1A-9117-38E90C38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54271-F35D-4C92-8C23-0D7B3713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C9B37-C9F5-4D4A-82DE-EA290BF6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955D6-2285-4B2E-823A-E2CB8E40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7CEE5-AE83-4A69-99FB-1E4A161E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C2FC-AD1E-4E4C-ACC2-AD961B9C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1CAA3-C286-4D4C-8E74-FF695F6E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669A8-C6A2-4998-8C66-BFE19359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174D7-8108-45DD-8084-F4732546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58B40-963F-4209-8D48-7668A8824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96FD3-BA4F-4B19-B843-E418270CF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C1658-C416-42E0-9F58-A3BE877E0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793CA-7FBD-42EF-ACE8-7321E418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E2F45-8906-4798-B516-8A9FE577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35A94-EA14-4F1B-99E9-AD234045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B7AD9-B64C-4628-B31C-434B4B91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1271-B477-44DB-8F4A-CEC202D1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4062A-748C-4EA7-8FA8-CA836AE4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E50CE-1710-49DC-8B85-E567D313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64B31-50FB-4002-9EBA-1B7F1300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5FFE7-44E6-4A0A-97D6-D06544BB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F0CB1-6876-4A6F-A25D-581E324B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66821-4407-4AE1-8FC9-5461B73D5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38D2E-18B0-416D-82DF-5FDD4436D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26D6B1-EDD8-4279-85B0-ADCF4EC37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528C0-D6D3-4626-9E9A-CBDCF860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58017-C571-43CA-B671-D9093CF2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63C3-4EE6-4166-8A74-569FF30D0A0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0300-244B-441B-BBE1-0CBD27CD4A7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F27A-4D22-4D2A-9AB2-6FF9DA4C2F4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B730-3325-4933-ACA7-3FC53EE2A6C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59DF-AA6F-49AB-ADB8-F25D7CD4381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34D3-7887-4175-9836-EA281621C7C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EEBA-837B-4422-8B67-68433647B04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8343-6201-4118-A281-18D701ED987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31B3-BA58-42F5-95D5-88D655D04AE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A6D6-39C0-4099-9005-63D52BC96A4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3F17-A46B-4866-BC93-6404EE8656C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BF10-C4EE-4C1D-ACB6-DA51DD2DF1C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3 Hľa, blankyt neba modrav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ľa, blankyt neba modrav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i mračien náhle čierňav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z obzoru sa vynori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 sláve Tvorcu hovor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eň dňu i tmavej noci noc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ú nekonečnú Božiu moc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m mocne bez slov, bez reč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nepochybne dosvedč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hviezdam dráhu vymer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em zvláštnou krásou priodi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v jeho lásky objat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úč slnečný ju pozlá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k každý človek poznať smi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ie Božie skutky úžasné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mie jeho veľkosť poznáva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lu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lávu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esť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u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dať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ak človek reč tú neču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rozum svoj vždy zbožňuj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rady, ktoré Boh mu d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k často hriešne zanedb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nes,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nova prosiť chc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j, nech ťa več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liť smie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riech, vinu každú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o mňa sní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uď mojou Skalou, Spasení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04T09:47:06Z</dcterms:modified>
  <cp:revision>30</cp:revision>
  <dc:subject/>
  <dc:title>Je veľký náš Pán, on slávy je Kráľ Nech do všetkých strán  spev vrúcnych znie chvál.</dc:title>
</cp:coreProperties>
</file>